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555-FDDC-433E-922F-0E0758AA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68D-C0AC-4130-B37C-D0B7A46A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39F-D26E-4EFC-92B1-D23FD830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FCE3-DD0E-410A-9F28-5FC04B91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9CC-1467-4D75-BC92-C378FFF4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48A-3CAC-4527-AF5A-41EC859F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5C6-969C-4DAA-8E8C-FC6EB062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2F0-A640-4F0E-9A2D-D5ED8E82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DD6-F74B-430F-86D8-73DCE4FF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97E-A6D2-4B54-A193-5648A85C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0C4-CFAC-4B5A-8B4E-7AC6E45B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F67-9A83-425B-9F6F-8495D696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7ACC-B95D-4B0E-9396-CD42FD608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280" y="23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34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1 Causes of 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95760"/>
            <a:ext cx="33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3 Gathering Weathe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89480" y="0"/>
            <a:ext cx="33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2 Weath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360" y="459576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4 Weather Analysis &amp; Predi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7040" y="69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840" y="3967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4000" y="3841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0600" y="506088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17640" y="505620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10800000">
            <a:off x="1396800" y="3951000"/>
            <a:ext cx="43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active Word Wall for Meteor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275440" y="3147840"/>
            <a:ext cx="11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530680" y="2149560"/>
            <a:ext cx="9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5261040" y="8488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1518840" y="32000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or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1490400" y="2152440"/>
            <a:ext cx="16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1918800" y="819000"/>
            <a:ext cx="10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92160" y="4735440"/>
            <a:ext cx="4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3920" y="471960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Learning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0040" y="5224320"/>
            <a:ext cx="3159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 local daily weather forecasts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, newspaper, or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k weather in four other cities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high and low temperatures &amp; levels of precipitation for those c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weather in different citi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findings of my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2000" y="469260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OR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79720" y="5464080"/>
            <a:ext cx="2416320" cy="2094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3428640" y="4597560"/>
            <a:ext cx="25560" cy="4546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6680" y="7709040"/>
            <a:ext cx="27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ID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 patterns can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, analyzed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29:38Z</dcterms:created>
  <dc:creator>Office of Technology</dc:creator>
  <dc:description/>
  <dc:language>en-US</dc:language>
  <cp:lastModifiedBy>SDOL</cp:lastModifiedBy>
  <dcterms:modified xsi:type="dcterms:W3CDTF">2009-12-02T17:29:16Z</dcterms:modified>
  <cp:revision>4</cp:revision>
  <dc:subject/>
  <dc:title>Slide 1</dc:title>
</cp:coreProperties>
</file>